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75 SG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6. Mar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Plo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130400" y="1319040"/>
            <a:ext cx="7326000" cy="4717440"/>
            <a:chOff x="1130400" y="1319040"/>
            <a:chExt cx="7326000" cy="4717440"/>
          </a:xfrm>
        </p:grpSpPr>
        <p:sp>
          <p:nvSpPr>
            <p:cNvPr id="89" name=""/>
            <p:cNvSpPr/>
            <p:nvPr/>
          </p:nvSpPr>
          <p:spPr>
            <a:xfrm>
              <a:off x="1130400" y="1319040"/>
              <a:ext cx="7326000" cy="4717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84760" y="1319040"/>
              <a:ext cx="7249680" cy="47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158840" y="1468440"/>
            <a:ext cx="7269120" cy="43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: 01.04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:   26.09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:  14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: 26.04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5: 24.11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:   28.02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: 03.06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:   10.01.0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:  28.03.0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ion about switching to SG2 solution still ongoing due to the fact that a lot of one-time SW effort would be necessary but from today’s point of view SG2 Rel. 2 in 02/06 is highly endangered (see Polaris Status Report) =&gt;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ecision to keep SGL has been ma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ff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esign has been fixed with non-rotated display, but display will be shifted north by appr. 2mm by using Aries instead of Phoenix speak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AAC-Chip (SACC-X) required with included SD-Interface and 26MHz SPI. Schedule risky but fea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one-time effort  for support of Nano-I/O, AAC chip with SD interface, display interface not via video c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upport of 130x130 display resolution possible as no SGL-based MMI available for 128x128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9800" y="331776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54040" y="33764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2600" y="3641760"/>
            <a:ext cx="195120" cy="20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52600" y="3908520"/>
            <a:ext cx="195120" cy="207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CN1FZ000</cp:lastModifiedBy>
  <cp:lastPrinted>2004-02-29T14:41:19Z</cp:lastPrinted>
  <dcterms:modified xsi:type="dcterms:W3CDTF">2005-03-20T06:52:16Z</dcterms:modified>
  <cp:revision>719</cp:revision>
  <dc:subject/>
  <dc:title>PowerPoint Presentation</dc:title>
</cp:coreProperties>
</file>